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5.jpeg" ContentType="image/jpeg"/>
  <Override PartName="/ppt/media/image4.jpeg" ContentType="image/jpeg"/>
  <Override PartName="/ppt/media/image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8.png" ContentType="image/png"/>
  <Override PartName="/ppt/media/image14.jpeg" ContentType="image/jpeg"/>
  <Override PartName="/ppt/media/image31.png" ContentType="image/png"/>
  <Override PartName="/ppt/media/image6.png" ContentType="image/pn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bomb.wav" ContentType="audio/x-wav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9F80-3D28-4D23-AA2B-6103226B0B3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ckbl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3063-81B0-4089-936B-B3DEE3FD84B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20A9-C5B6-4A12-9DE2-8A0FC51CF5C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: Der Sanitärinstallate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6720-C140-48ED-9637-930977B16EE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ww.vollbrennwerttechnik.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871C-6FB9-402B-92D1-77F7D922E5A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gida.de/testcenter/physik/phys-dvd003/aufgabe_02.htm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de.wikipedia.org/wiki/Resublimi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DFF0-EEBF-479B-81F4-5E1A12FA580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gida.de/testcenter/physik/phys-dvd003/aufgabe_02.htm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de.wikipedia.org/wiki/Resublimi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E015-C2D8-4198-ABCD-2588383BA18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D871-400A-4A6D-82A7-C4EA0615D71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4F73-D240-45DA-955C-7EDA879481A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de.wikipedia.org/wiki/F%C3%BChlbare_W%C3%A4rm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heiz-tipp.de/lexikon-251-latente_waerm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0F4A-E721-4E71-A32E-DB29139FFD9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brennwert.info/index.asp?art=verdunstungs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0904-8E3D-4517-B4E9-E95FC78BFE0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13B6-A7A2-4C76-824D-AE57584835C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brennwert.info/index.asp?art=brennwerttechnik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: google Bilder Brennwerttech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ECA3-4406-4A66-AA0A-A840E913C6D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 der Heizungsinstallateur Seite 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1709-F4CB-46FA-81F0-D0A3D64742B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 aus Buch: Der Sanitärinstallateur Seite 4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F24B-0F08-4DE5-AF45-84C6EF40095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: Der Sanitär Installateur S.4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CFFA-F102-4DA4-8071-D69E22F45A5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8541-3E91-4B25-ADB6-152F5CC1698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: Der Heizungsinstallate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39BF-C6E7-40A4-9B9A-E5068AD61A9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haag-ortner.de/heizung/olgas-brennwerttechnik.htm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D9BE-B035-4923-85E2-B08270390C3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brennwert.info/index.asp?art=vorteile_brennwerttech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F1D0-7282-4CDC-B0A9-48D889B1B93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Taschenbuch der Umwelttech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n Karl Schw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books.google.de/books?id=pno_TqukH7UC&amp;pg=PA442&amp;lpg=PA442&amp;dq=Typische+Wirkungsgrade+im+Vergleich+taschenbuch+der+umwelttechnik&amp;source=bl&amp;ots=Oii1n6GWfR&amp;sig=ocFr1Z4n3-23RGzoU4dMx847jB8&amp;hl=de&amp;ei=-_DBS7bnGsWvOL3NuZcE&amp;sa=X&amp;oi=book_result&amp;ct=result&amp;resnum=1&amp;ved=0CAYQ6AEwAA#v=onepage&amp;q&amp;f=fa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1D54-CA76-41C5-BD74-0BD483EF463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687-D297-4B80-A657-7965E89E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DC2-A5DA-49FB-8051-7CDA6D05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795-2C2F-4F0F-9C27-AE1608EE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7E4-85C7-444D-A4AD-D4244C5D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2FB-4DEE-4F85-B168-8F8C07B2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87D-357D-476B-B210-DE6662AC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064-0AAC-46A3-A625-E194B7BE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F18-7F3E-427E-AFA7-FE778DCF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4A6-1B69-4B02-8C99-0D83DC15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F9E-9C15-49C6-A95B-CD17F0E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9E3-BE16-4604-918B-3771F55E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660-08B0-403A-A01A-2A722286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62E2-4330-4ED3-A65A-C4CD87954E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Brennwerttechnik.mo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e.wikipedia.org/wiki/Brennwertkessel" TargetMode="External"/><Relationship Id="rId2" Type="http://schemas.openxmlformats.org/officeDocument/2006/relationships/hyperlink" Target="http://www.vollbrennwerttechnik.de/home/home.html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Brennwerttechni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4" descr="2569_0.jpg"/>
          <p:cNvPicPr/>
          <p:nvPr/>
        </p:nvPicPr>
        <p:blipFill>
          <a:blip r:embed="rId1"/>
          <a:stretch/>
        </p:blipFill>
        <p:spPr>
          <a:xfrm rot="21241200">
            <a:off x="934920" y="2506680"/>
            <a:ext cx="3027600" cy="3027240"/>
          </a:xfrm>
          <a:prstGeom prst="rect">
            <a:avLst/>
          </a:prstGeom>
          <a:ln w="0">
            <a:noFill/>
          </a:ln>
        </p:spPr>
      </p:pic>
      <p:pic>
        <p:nvPicPr>
          <p:cNvPr id="50" name="Grafik 5" descr="vitolaplus300.jpg"/>
          <p:cNvPicPr/>
          <p:nvPr/>
        </p:nvPicPr>
        <p:blipFill>
          <a:blip r:embed="rId2"/>
          <a:stretch/>
        </p:blipFill>
        <p:spPr>
          <a:xfrm rot="174600">
            <a:off x="5146200" y="2862360"/>
            <a:ext cx="310212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Textfeld 6"/>
          <p:cNvSpPr/>
          <p:nvPr/>
        </p:nvSpPr>
        <p:spPr>
          <a:xfrm>
            <a:off x="357120" y="59292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FOS T-2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Jahrgang: 2009/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elche Arten von Brennwertgeräten gibt 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4"/>
          <p:cNvSpPr/>
          <p:nvPr/>
        </p:nvSpPr>
        <p:spPr>
          <a:xfrm>
            <a:off x="214200" y="1643040"/>
            <a:ext cx="5715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Gas-Brennwertkessel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Brennwertther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Öl-Brennwertkessel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Brennwertther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eststoff-Brennwertkes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Grafik 5" descr="p437_Oel-Brennwertkessel-Buderus-GB125-BE-30kW_1-1.jpg"/>
          <p:cNvPicPr/>
          <p:nvPr/>
        </p:nvPicPr>
        <p:blipFill>
          <a:blip r:embed="rId1"/>
          <a:stretch/>
        </p:blipFill>
        <p:spPr>
          <a:xfrm>
            <a:off x="6143760" y="3000240"/>
            <a:ext cx="1841400" cy="1643040"/>
          </a:xfrm>
          <a:prstGeom prst="rect">
            <a:avLst/>
          </a:prstGeom>
          <a:ln w="0">
            <a:noFill/>
          </a:ln>
        </p:spPr>
      </p:pic>
      <p:pic>
        <p:nvPicPr>
          <p:cNvPr id="72" name="Grafik 6" descr="1706-buderus1.gif"/>
          <p:cNvPicPr/>
          <p:nvPr/>
        </p:nvPicPr>
        <p:blipFill>
          <a:blip r:embed="rId2"/>
          <a:stretch/>
        </p:blipFill>
        <p:spPr>
          <a:xfrm>
            <a:off x="6143760" y="1214280"/>
            <a:ext cx="1822320" cy="1571760"/>
          </a:xfrm>
          <a:prstGeom prst="rect">
            <a:avLst/>
          </a:prstGeom>
          <a:ln w="0">
            <a:noFill/>
          </a:ln>
        </p:spPr>
      </p:pic>
      <p:pic>
        <p:nvPicPr>
          <p:cNvPr id="73" name="Grafik 7" descr="p4-pellet-15_kondensat-wt-406x550.jpg"/>
          <p:cNvPicPr/>
          <p:nvPr/>
        </p:nvPicPr>
        <p:blipFill>
          <a:blip r:embed="rId3"/>
          <a:stretch/>
        </p:blipFill>
        <p:spPr>
          <a:xfrm>
            <a:off x="6143760" y="4857840"/>
            <a:ext cx="18572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o kommen Brennwertgeräte zum Einsatz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feld 2"/>
          <p:cNvSpPr/>
          <p:nvPr/>
        </p:nvSpPr>
        <p:spPr>
          <a:xfrm>
            <a:off x="214200" y="192888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 Ein- und Mehrfamilienhäus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 Wohn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 großen Gebäudekomplex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Chemische Grundl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Grafik 3" descr="chemie.jpg"/>
          <p:cNvPicPr/>
          <p:nvPr/>
        </p:nvPicPr>
        <p:blipFill>
          <a:blip r:embed="rId1"/>
          <a:stretch/>
        </p:blipFill>
        <p:spPr>
          <a:xfrm rot="21411600">
            <a:off x="869760" y="2655720"/>
            <a:ext cx="314316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Grafik 5" descr="chemiker.gif"/>
          <p:cNvPicPr/>
          <p:nvPr/>
        </p:nvPicPr>
        <p:blipFill>
          <a:blip r:embed="rId2"/>
          <a:stretch/>
        </p:blipFill>
        <p:spPr>
          <a:xfrm rot="266400">
            <a:off x="5346360" y="2536920"/>
            <a:ext cx="29289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feld 1"/>
          <p:cNvSpPr/>
          <p:nvPr/>
        </p:nvSpPr>
        <p:spPr>
          <a:xfrm>
            <a:off x="214200" y="357120"/>
            <a:ext cx="87156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Heizwert und Brennwert</a:t>
            </a:r>
            <a:br>
              <a:rPr sz="32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  Man unterscheidet bei allen Brennstoffen zwei Werte für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nutzbare Wärmemenge: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den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unteren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Heizwert und den oberen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       Heizwert (Brennwert)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 u="sng">
                <a:solidFill>
                  <a:srgbClr val="ff0000"/>
                </a:solidFill>
                <a:uFillTx/>
                <a:latin typeface="Calibri"/>
              </a:rPr>
              <a:t>Beim Heizwert</a:t>
            </a:r>
            <a:r>
              <a:rPr b="0" lang="de-DE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rd nur die fühlbare Wärme berücksichtigt,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sich als Temperaturerhöhung messen lässt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 u="sng">
                <a:solidFill>
                  <a:srgbClr val="ff0000"/>
                </a:solidFill>
                <a:uFillTx/>
                <a:latin typeface="Calibri"/>
              </a:rPr>
              <a:t>Beim Brennwert</a:t>
            </a:r>
            <a:r>
              <a:rPr b="0" lang="de-DE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st die Wärme eingeschlossen, die im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sserdampfanteil der Abgase versteckt ist (latente Energie).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se lässt sich nicht als Temperaturerhöhung messen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Beim Öl macht dies einen Energiezugewinn von ca. 6%, beim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ca. 11% des Heizwertes a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Wie können Wirkungsgrade über 100% zustande komm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Grafik 2" descr="Feuerungstechnischer wirkungsgrad.jpg"/>
          <p:cNvPicPr/>
          <p:nvPr/>
        </p:nvPicPr>
        <p:blipFill>
          <a:blip r:embed="rId1"/>
          <a:srcRect l="0" t="0" r="20509" b="79159"/>
          <a:stretch/>
        </p:blipFill>
        <p:spPr>
          <a:xfrm>
            <a:off x="1428840" y="3357720"/>
            <a:ext cx="6168960" cy="1428480"/>
          </a:xfrm>
          <a:prstGeom prst="rect">
            <a:avLst/>
          </a:prstGeom>
          <a:ln w="0">
            <a:noFill/>
          </a:ln>
        </p:spPr>
      </p:pic>
      <p:sp>
        <p:nvSpPr>
          <p:cNvPr id="82" name="Textfeld 3"/>
          <p:cNvSpPr/>
          <p:nvPr/>
        </p:nvSpPr>
        <p:spPr>
          <a:xfrm>
            <a:off x="1285920" y="1714680"/>
            <a:ext cx="6286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= Abgasverluste in %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= Wärmegewinn aus Brennwertnutzung in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rafik 2" descr="brennwert.gif"/>
          <p:cNvPicPr/>
          <p:nvPr/>
        </p:nvPicPr>
        <p:blipFill>
          <a:blip r:embed="rId1"/>
          <a:stretch/>
        </p:blipFill>
        <p:spPr>
          <a:xfrm>
            <a:off x="642960" y="1571760"/>
            <a:ext cx="7940520" cy="4643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Beispiel an Heizö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Aggregatzustände von Wass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2" descr="aggregatzustaende2.jpg"/>
          <p:cNvPicPr/>
          <p:nvPr/>
        </p:nvPicPr>
        <p:blipFill>
          <a:blip r:embed="rId1"/>
          <a:stretch/>
        </p:blipFill>
        <p:spPr>
          <a:xfrm>
            <a:off x="285840" y="1071720"/>
            <a:ext cx="8643960" cy="4862520"/>
          </a:xfrm>
          <a:prstGeom prst="rect">
            <a:avLst/>
          </a:prstGeom>
          <a:ln w="0">
            <a:noFill/>
          </a:ln>
        </p:spPr>
      </p:pic>
      <p:sp>
        <p:nvSpPr>
          <p:cNvPr id="87" name="Textfeld 3"/>
          <p:cNvSpPr/>
          <p:nvPr/>
        </p:nvSpPr>
        <p:spPr>
          <a:xfrm>
            <a:off x="0" y="59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ieden, Erstarren, Kondensieren, Sublimieren, Schmelzen, Resublim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Auflös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Grafik 2" descr="aggregatzustaende2.jpg"/>
          <p:cNvPicPr/>
          <p:nvPr/>
        </p:nvPicPr>
        <p:blipFill>
          <a:blip r:embed="rId1"/>
          <a:stretch/>
        </p:blipFill>
        <p:spPr>
          <a:xfrm>
            <a:off x="285840" y="1071720"/>
            <a:ext cx="8643960" cy="4862520"/>
          </a:xfrm>
          <a:prstGeom prst="rect">
            <a:avLst/>
          </a:prstGeom>
          <a:ln w="0">
            <a:noFill/>
          </a:ln>
        </p:spPr>
      </p:pic>
      <p:sp>
        <p:nvSpPr>
          <p:cNvPr id="90" name="Textfeld 3"/>
          <p:cNvSpPr/>
          <p:nvPr/>
        </p:nvSpPr>
        <p:spPr>
          <a:xfrm>
            <a:off x="0" y="59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1.Schmelzen, 2.Erstarren, 3.Sieden, 4.Kondensieren, 5.Sublimieren, 6.Resublim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Zusammensetzung von Erdgas und Erdö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Grafik 5" descr="546.gif"/>
          <p:cNvPicPr/>
          <p:nvPr/>
        </p:nvPicPr>
        <p:blipFill>
          <a:blip r:embed="rId1"/>
          <a:srcRect l="16361" t="0" r="-2446" b="0"/>
          <a:stretch/>
        </p:blipFill>
        <p:spPr>
          <a:xfrm>
            <a:off x="357120" y="2857680"/>
            <a:ext cx="5286600" cy="2006280"/>
          </a:xfrm>
          <a:prstGeom prst="rect">
            <a:avLst/>
          </a:prstGeom>
          <a:ln w="0">
            <a:noFill/>
          </a:ln>
        </p:spPr>
      </p:pic>
      <p:pic>
        <p:nvPicPr>
          <p:cNvPr id="93" name="Grafik 6" descr="Bild1ddsf.gif"/>
          <p:cNvPicPr/>
          <p:nvPr/>
        </p:nvPicPr>
        <p:blipFill>
          <a:blip r:embed="rId2"/>
          <a:srcRect l="34804" t="0" r="0" b="0"/>
          <a:stretch/>
        </p:blipFill>
        <p:spPr>
          <a:xfrm>
            <a:off x="6357960" y="2857680"/>
            <a:ext cx="2165400" cy="2000160"/>
          </a:xfrm>
          <a:prstGeom prst="rect">
            <a:avLst/>
          </a:prstGeom>
          <a:ln w="0">
            <a:noFill/>
          </a:ln>
        </p:spPr>
      </p:pic>
      <p:sp>
        <p:nvSpPr>
          <p:cNvPr id="94" name="Textfeld 7"/>
          <p:cNvSpPr/>
          <p:nvPr/>
        </p:nvSpPr>
        <p:spPr>
          <a:xfrm>
            <a:off x="714240" y="221472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Beispiel Erdö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8"/>
          <p:cNvSpPr/>
          <p:nvPr/>
        </p:nvSpPr>
        <p:spPr>
          <a:xfrm>
            <a:off x="6429240" y="164304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Beispiel</a:t>
            </a:r>
            <a:br>
              <a:rPr sz="3600"/>
            </a:b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Erd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Zusammensetzung der Abg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feld 2"/>
          <p:cNvSpPr/>
          <p:nvPr/>
        </p:nvSpPr>
        <p:spPr>
          <a:xfrm>
            <a:off x="214200" y="1225440"/>
            <a:ext cx="871560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Fossile Energieträger wie Erdöl bzw. Erdgas bestehen zu über 90% aus Verbindungen von Kohlenstoffatomen und Wasserstoffatomen. Diese Atome sind auch nach der Verbrennung noch da.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Die Verbrennung ist eine Umgruppierung der Atomen. </a:t>
            </a:r>
            <a:br>
              <a:rPr sz="2400"/>
            </a:br>
            <a:r>
              <a:rPr b="0" i="1" lang="de-DE" sz="2400" spc="-1" strike="noStrike" u="sng">
                <a:solidFill>
                  <a:srgbClr val="000000"/>
                </a:solidFill>
                <a:uFillTx/>
                <a:latin typeface="Calibri"/>
              </a:rPr>
              <a:t>Sauerstoffatome aus der Luft verbinden sich mit Kohlenstoffatomen und Wasserstoffatomen z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Kohlendiox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Wasserdampf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So entstehen bei der Verbrennung von 1 Liter Heizöl etwa 2,6 kg CO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und bei der Verbrennung von 1 Kubikmeter Erdgas rund 2 kg CO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feld 2"/>
          <p:cNvSpPr/>
          <p:nvPr/>
        </p:nvSpPr>
        <p:spPr>
          <a:xfrm>
            <a:off x="642960" y="150012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Video Brennwerttech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Einl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Chemische Grundlagen</a:t>
            </a:r>
            <a:br>
              <a:rPr sz="3200"/>
            </a:b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Technische Grundlagen</a:t>
            </a:r>
            <a:br>
              <a:rPr sz="3200"/>
            </a:b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Matheaufga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Abgastaupunkt in Abhängigkeit auf den CO</a:t>
            </a:r>
            <a:r>
              <a:rPr b="1" i="1" lang="de-DE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- Geha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Grafik 2" descr="taupunkt.gif"/>
          <p:cNvPicPr/>
          <p:nvPr/>
        </p:nvPicPr>
        <p:blipFill>
          <a:blip r:embed="rId1"/>
          <a:stretch/>
        </p:blipFill>
        <p:spPr>
          <a:xfrm>
            <a:off x="1357200" y="1071720"/>
            <a:ext cx="6429600" cy="4730760"/>
          </a:xfrm>
          <a:prstGeom prst="rect">
            <a:avLst/>
          </a:prstGeom>
          <a:ln w="0">
            <a:noFill/>
          </a:ln>
        </p:spPr>
      </p:pic>
      <p:sp>
        <p:nvSpPr>
          <p:cNvPr id="100" name="Textfeld 3"/>
          <p:cNvSpPr/>
          <p:nvPr/>
        </p:nvSpPr>
        <p:spPr>
          <a:xfrm>
            <a:off x="0" y="5715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CO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- Gehalt gibt nun Aufschluss über den Taupunkt der Abgas.</a:t>
            </a:r>
            <a:r>
              <a:rPr b="1" i="1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Thermischer Auftrie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feld 2"/>
          <p:cNvSpPr/>
          <p:nvPr/>
        </p:nvSpPr>
        <p:spPr>
          <a:xfrm>
            <a:off x="571680" y="1643040"/>
            <a:ext cx="8215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or“ der natürlichen Lüf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bhängig von der Abgastemperatur und 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bäudehöhe (Abgasw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i Brennwertgeräten kann der thermische Auftri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r gering genu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i Brennwertgeräten ist ein zusätzli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bgasventilator nö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rafik 3" descr="1206_1.jpg"/>
          <p:cNvPicPr/>
          <p:nvPr/>
        </p:nvPicPr>
        <p:blipFill>
          <a:blip r:embed="rId1"/>
          <a:stretch/>
        </p:blipFill>
        <p:spPr>
          <a:xfrm rot="788400">
            <a:off x="7052760" y="482076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04" name="Grafik 4" descr="schornsteinschacht.gif"/>
          <p:cNvPicPr/>
          <p:nvPr/>
        </p:nvPicPr>
        <p:blipFill>
          <a:blip r:embed="rId2"/>
          <a:stretch/>
        </p:blipFill>
        <p:spPr>
          <a:xfrm rot="21369600">
            <a:off x="7279920" y="1336320"/>
            <a:ext cx="15890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Grafik 2" descr="Pysikalische Zusammensetzung.jpg"/>
          <p:cNvPicPr/>
          <p:nvPr/>
        </p:nvPicPr>
        <p:blipFill>
          <a:blip r:embed="rId1"/>
          <a:srcRect l="11719" t="4973" r="23073" b="36055"/>
          <a:stretch/>
        </p:blipFill>
        <p:spPr>
          <a:xfrm>
            <a:off x="1428840" y="1571760"/>
            <a:ext cx="6305400" cy="4286160"/>
          </a:xfrm>
          <a:prstGeom prst="rect">
            <a:avLst/>
          </a:prstGeom>
          <a:ln w="0">
            <a:noFill/>
          </a:ln>
        </p:spPr>
      </p:pic>
      <p:sp>
        <p:nvSpPr>
          <p:cNvPr id="106" name="Textfeld 3"/>
          <p:cNvSpPr/>
          <p:nvPr/>
        </p:nvSpPr>
        <p:spPr>
          <a:xfrm>
            <a:off x="0" y="0"/>
            <a:ext cx="957276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Der Verbrennungsvorgang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Calibri"/>
              </a:rPr>
              <a:t>Allgemeine Reaktionsgleichung: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nC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y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+ mO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→ pCO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+ qH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feld 4"/>
          <p:cNvSpPr/>
          <p:nvPr/>
        </p:nvSpPr>
        <p:spPr>
          <a:xfrm>
            <a:off x="1357200" y="5929200"/>
            <a:ext cx="7786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Erdgas (Methan): CH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+ 2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2H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O + C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Erdöl (Dekan): 2 C10H22 + 31 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22 H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O + 20 C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Stoff- und Energieflu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Grafik 3" descr="Bild_Grafik_Gas_Brennwertkessel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11760" cy="4500720"/>
          </a:xfrm>
          <a:prstGeom prst="rect">
            <a:avLst/>
          </a:prstGeom>
          <a:ln w="0">
            <a:noFill/>
          </a:ln>
        </p:spPr>
      </p:pic>
      <p:cxnSp>
        <p:nvCxnSpPr>
          <p:cNvPr id="110" name="Gewinkelte Verbindung 5"/>
          <p:cNvCxnSpPr>
            <a:stCxn id="111" idx="3"/>
          </p:cNvCxnSpPr>
          <p:nvPr/>
        </p:nvCxnSpPr>
        <p:spPr>
          <a:xfrm>
            <a:off x="713880" y="2255760"/>
            <a:ext cx="3287160" cy="1977120"/>
          </a:xfrm>
          <a:prstGeom prst="curvedConnector5">
            <a:avLst>
              <a:gd name="adj1" fmla="val 37995"/>
              <a:gd name="adj2" fmla="val 49990"/>
              <a:gd name="adj3" fmla="val 37995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1" name="Textfeld 17"/>
          <p:cNvSpPr/>
          <p:nvPr/>
        </p:nvSpPr>
        <p:spPr>
          <a:xfrm>
            <a:off x="285840" y="2071800"/>
            <a:ext cx="428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Gerade Verbindung mit Pfeil 56"/>
          <p:cNvCxnSpPr>
            <a:stCxn id="113" idx="1"/>
          </p:cNvCxnSpPr>
          <p:nvPr/>
        </p:nvCxnSpPr>
        <p:spPr>
          <a:xfrm flipH="1">
            <a:off x="4285440" y="2611800"/>
            <a:ext cx="4072680" cy="888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3" name="Textfeld 60"/>
          <p:cNvSpPr/>
          <p:nvPr/>
        </p:nvSpPr>
        <p:spPr>
          <a:xfrm>
            <a:off x="8358120" y="2428920"/>
            <a:ext cx="42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Gerade Verbindung mit Pfeil 65"/>
          <p:cNvCxnSpPr>
            <a:stCxn id="115" idx="1"/>
          </p:cNvCxnSpPr>
          <p:nvPr/>
        </p:nvCxnSpPr>
        <p:spPr>
          <a:xfrm flipH="1" flipV="1">
            <a:off x="5571720" y="3714480"/>
            <a:ext cx="2858400" cy="899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5" name="Textfeld 69"/>
          <p:cNvSpPr/>
          <p:nvPr/>
        </p:nvSpPr>
        <p:spPr>
          <a:xfrm>
            <a:off x="8429760" y="4429080"/>
            <a:ext cx="428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9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feld 4"/>
          <p:cNvSpPr/>
          <p:nvPr/>
        </p:nvSpPr>
        <p:spPr>
          <a:xfrm>
            <a:off x="214200" y="571680"/>
            <a:ext cx="5643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Fühlbare und latente Wärme</a:t>
            </a:r>
            <a:br>
              <a:rPr sz="2800"/>
            </a:br>
            <a:br>
              <a:rPr sz="2400"/>
            </a:br>
            <a:r>
              <a:rPr b="1" i="1" lang="de-DE" sz="2400" spc="-1" strike="noStrike">
                <a:solidFill>
                  <a:srgbClr val="ff0000"/>
                </a:solidFill>
                <a:latin typeface="Calibri"/>
              </a:rPr>
              <a:t>Fühlbare Wärme: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Äußert sich durch Änderung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emp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st direkt fühl- bzw. Messba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i="1" lang="de-DE" sz="2400" spc="-1" strike="noStrike">
                <a:solidFill>
                  <a:srgbClr val="ff0000"/>
                </a:solidFill>
                <a:latin typeface="Calibri"/>
              </a:rPr>
              <a:t>Latente Wär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steckte Wä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Wärmemenge, die einem S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geführt werden kann, ohne das sich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emperatur ändert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k 2" descr="hot-thermometer.gif"/>
          <p:cNvPicPr/>
          <p:nvPr/>
        </p:nvPicPr>
        <p:blipFill>
          <a:blip r:embed="rId1"/>
          <a:stretch/>
        </p:blipFill>
        <p:spPr>
          <a:xfrm rot="205800">
            <a:off x="6224760" y="1196640"/>
            <a:ext cx="1873080" cy="2754360"/>
          </a:xfrm>
          <a:prstGeom prst="rect">
            <a:avLst/>
          </a:prstGeom>
          <a:ln w="0">
            <a:noFill/>
          </a:ln>
        </p:spPr>
      </p:pic>
      <p:pic>
        <p:nvPicPr>
          <p:cNvPr id="118" name="Grafik 3" descr="latent.jpg"/>
          <p:cNvPicPr/>
          <p:nvPr/>
        </p:nvPicPr>
        <p:blipFill>
          <a:blip r:embed="rId2"/>
          <a:stretch/>
        </p:blipFill>
        <p:spPr>
          <a:xfrm rot="21424800">
            <a:off x="5767200" y="4292280"/>
            <a:ext cx="31017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Beispiel zur Latenten Wär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Grafik 2" descr="039387_T.JPG"/>
          <p:cNvPicPr/>
          <p:nvPr/>
        </p:nvPicPr>
        <p:blipFill>
          <a:blip r:embed="rId1"/>
          <a:stretch/>
        </p:blipFill>
        <p:spPr>
          <a:xfrm>
            <a:off x="3071880" y="2000160"/>
            <a:ext cx="30020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Kondensateigenschaf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feld 2"/>
          <p:cNvSpPr/>
          <p:nvPr/>
        </p:nvSpPr>
        <p:spPr>
          <a:xfrm>
            <a:off x="357120" y="15001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as anfallende Kondensat enthält neben geringer Mengen an Schwermetallen (Blei, Kupfer, Nickel, Chrom, Zink) hauptsächlich Säu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Kohlen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chwefel- und schweflige 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alpeter und salpetrige 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alz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er pH-Wert des Kondensates liegt zwischen 3,5 und 4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Grafik 3" descr="tnsaeur2.JPG"/>
          <p:cNvPicPr/>
          <p:nvPr/>
        </p:nvPicPr>
        <p:blipFill>
          <a:blip r:embed="rId1"/>
          <a:stretch/>
        </p:blipFill>
        <p:spPr>
          <a:xfrm>
            <a:off x="4857840" y="2786040"/>
            <a:ext cx="38973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Technische Grundl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Aufbauschema von Brennwert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Grafik 2" descr="Buderus GB 162.jpg"/>
          <p:cNvPicPr/>
          <p:nvPr/>
        </p:nvPicPr>
        <p:blipFill>
          <a:blip r:embed="rId1"/>
          <a:srcRect l="0" t="0" r="39553" b="37302"/>
          <a:stretch/>
        </p:blipFill>
        <p:spPr>
          <a:xfrm>
            <a:off x="1571760" y="1160640"/>
            <a:ext cx="62150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9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2"/>
          <p:cNvSpPr/>
          <p:nvPr/>
        </p:nvSpPr>
        <p:spPr>
          <a:xfrm>
            <a:off x="285840" y="2858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Funk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Grafik 3" descr="brwb1.jpg"/>
          <p:cNvPicPr/>
          <p:nvPr/>
        </p:nvPicPr>
        <p:blipFill>
          <a:blip r:embed="rId1"/>
          <a:stretch/>
        </p:blipFill>
        <p:spPr>
          <a:xfrm>
            <a:off x="285840" y="1357200"/>
            <a:ext cx="8643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llipse 1"/>
          <p:cNvSpPr/>
          <p:nvPr/>
        </p:nvSpPr>
        <p:spPr>
          <a:xfrm>
            <a:off x="2643120" y="1000080"/>
            <a:ext cx="3714840" cy="3571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ideo_x000b_Brennwerttech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Grafik 3" descr="teilkondensation.jpg"/>
          <p:cNvPicPr/>
          <p:nvPr/>
        </p:nvPicPr>
        <p:blipFill>
          <a:blip r:embed="rId1"/>
          <a:stretch/>
        </p:blipFill>
        <p:spPr>
          <a:xfrm>
            <a:off x="5072040" y="214200"/>
            <a:ext cx="3429000" cy="325116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4" descr="vollkondensation.jpg"/>
          <p:cNvPicPr/>
          <p:nvPr/>
        </p:nvPicPr>
        <p:blipFill>
          <a:blip r:embed="rId2"/>
          <a:stretch/>
        </p:blipFill>
        <p:spPr>
          <a:xfrm>
            <a:off x="5072040" y="3571920"/>
            <a:ext cx="3429000" cy="3112920"/>
          </a:xfrm>
          <a:prstGeom prst="rect">
            <a:avLst/>
          </a:prstGeom>
          <a:ln w="0">
            <a:noFill/>
          </a:ln>
        </p:spPr>
      </p:pic>
      <p:sp>
        <p:nvSpPr>
          <p:cNvPr id="131" name="Textfeld 5"/>
          <p:cNvSpPr/>
          <p:nvPr/>
        </p:nvSpPr>
        <p:spPr>
          <a:xfrm>
            <a:off x="5072040" y="214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Teilkond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feld 6"/>
          <p:cNvSpPr/>
          <p:nvPr/>
        </p:nvSpPr>
        <p:spPr>
          <a:xfrm>
            <a:off x="5072040" y="35719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Vollkond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feld 8"/>
          <p:cNvSpPr/>
          <p:nvPr/>
        </p:nvSpPr>
        <p:spPr>
          <a:xfrm>
            <a:off x="214200" y="214200"/>
            <a:ext cx="4643640" cy="80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Kondensationsarten</a:t>
            </a:r>
            <a:br>
              <a:rPr sz="3200"/>
            </a:br>
            <a:br>
              <a:rPr sz="32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keine Kond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Rücklauftemperatur des Heizwassers liegt über dem Taupunkt des Abgases.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Teilkondens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Rücklauftemperatur des Heizwassers liegt zwar unter dem Taupunkt, die Abgastemperatur jedoch drüber.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Vollkondens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Abgastemperatur ist niedriger als die Wasserdampf- Taupunkttemperatu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Taupun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2"/>
          <p:cNvSpPr/>
          <p:nvPr/>
        </p:nvSpPr>
        <p:spPr>
          <a:xfrm>
            <a:off x="285840" y="1214280"/>
            <a:ext cx="8572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Taupunkttemperatur der Abgase ist abhängig v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en CO2- Gehalt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(je höher der CO2- Gehal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umso höher ist der Wasserdampfante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en Luftzahl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(je geringer die Luftzahl bzw. 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Luftüberschuss bei der Verbrennung, um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höher ist der Taupun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Grafik 7" descr="Bilxd1.png"/>
          <p:cNvPicPr/>
          <p:nvPr/>
        </p:nvPicPr>
        <p:blipFill>
          <a:blip r:embed="rId1"/>
          <a:srcRect l="0" t="-1566" r="0" b="0"/>
          <a:stretch/>
        </p:blipFill>
        <p:spPr>
          <a:xfrm>
            <a:off x="3643200" y="0"/>
            <a:ext cx="5500800" cy="6862680"/>
          </a:xfrm>
          <a:prstGeom prst="rect">
            <a:avLst/>
          </a:prstGeom>
          <a:ln w="0">
            <a:noFill/>
          </a:ln>
        </p:spPr>
      </p:pic>
      <p:sp>
        <p:nvSpPr>
          <p:cNvPr id="137" name="Textfeld 8"/>
          <p:cNvSpPr/>
          <p:nvPr/>
        </p:nvSpPr>
        <p:spPr>
          <a:xfrm>
            <a:off x="0" y="28584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assergehalt</a:t>
            </a:r>
            <a:br>
              <a:rPr sz="3600"/>
            </a:b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des Ab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feld 3"/>
          <p:cNvSpPr/>
          <p:nvPr/>
        </p:nvSpPr>
        <p:spPr>
          <a:xfrm>
            <a:off x="214200" y="1714680"/>
            <a:ext cx="3357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Beispiel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s Bild zeigt den Wassergehalt und den Taupunkt des Abgases bei der Verbrennung von Erd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- Gehalt= 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ssergehalt = 15%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aupunkt = 53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Abgastaupunkt in Abhängigkeit von der Luftz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Grafik 3" descr="Unbenannt.jpg"/>
          <p:cNvPicPr/>
          <p:nvPr/>
        </p:nvPicPr>
        <p:blipFill>
          <a:blip r:embed="rId1"/>
          <a:srcRect l="0" t="0" r="48346" b="54293"/>
          <a:stretch/>
        </p:blipFill>
        <p:spPr>
          <a:xfrm>
            <a:off x="1143000" y="1000080"/>
            <a:ext cx="7032600" cy="5143680"/>
          </a:xfrm>
          <a:prstGeom prst="rect">
            <a:avLst/>
          </a:prstGeom>
          <a:ln w="0">
            <a:noFill/>
          </a:ln>
        </p:spPr>
      </p:pic>
      <p:sp>
        <p:nvSpPr>
          <p:cNvPr id="141" name="Textfeld 4"/>
          <p:cNvSpPr/>
          <p:nvPr/>
        </p:nvSpPr>
        <p:spPr>
          <a:xfrm>
            <a:off x="2000160" y="6215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Formel:  λ=CO2max/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ie erreicht man geringe Rücklauftemperatur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feld 2"/>
          <p:cNvSpPr/>
          <p:nvPr/>
        </p:nvSpPr>
        <p:spPr>
          <a:xfrm>
            <a:off x="571680" y="1928880"/>
            <a:ext cx="7715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utzung von Heizflächen, die für niedrige Temperaturen ausgelegt sind wie z.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ußbodenheiz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andflächenheiz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fussbodenheizung.jpg"/>
          <p:cNvPicPr/>
          <p:nvPr/>
        </p:nvPicPr>
        <p:blipFill>
          <a:blip r:embed="rId1"/>
          <a:stretch/>
        </p:blipFill>
        <p:spPr>
          <a:xfrm>
            <a:off x="5614920" y="3632040"/>
            <a:ext cx="2927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Matheaufgaben </a:t>
            </a:r>
            <a:br>
              <a:rPr sz="4000"/>
            </a:br>
            <a:r>
              <a:rPr b="0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(Formeln und Beiwerte auf Handzettel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feld 2"/>
          <p:cNvSpPr/>
          <p:nvPr/>
        </p:nvSpPr>
        <p:spPr>
          <a:xfrm>
            <a:off x="785880" y="1714680"/>
            <a:ext cx="7786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ie Matheaufgaben sind in den einzelnen Gruppen zu berechnen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1. Aufgabe zur Bestimmung des Abgasverluste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in mit Erdgas befeuerter Gas-Heizkessel mit einer Nennwärmeleistung von 35kW weist die folgenden Messwerte auf: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Abgastemperatur 210°C, CO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- Gehalt 9,0% , Verbrennungslufttemp. -10°C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e groß ist der Abgasverlust?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feld 1"/>
          <p:cNvSpPr/>
          <p:nvPr/>
        </p:nvSpPr>
        <p:spPr>
          <a:xfrm>
            <a:off x="785880" y="357120"/>
            <a:ext cx="7715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2.Aufgabe zur Berechnung des Wirkungsgrades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Bestimmen Sie den feuerungstechnischen Wirkungsgrad eines Gas- Brennwertkessels (Erdgas E) 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wenn die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Abgastemperatur 55°C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Verbrennungslufttemperatur 20°C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und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der gemessene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-Gehalt 10%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betrage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F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Grafik 2" descr="fragezeichen300.jpg"/>
          <p:cNvPicPr/>
          <p:nvPr/>
        </p:nvPicPr>
        <p:blipFill>
          <a:blip r:embed="rId1"/>
          <a:stretch/>
        </p:blipFill>
        <p:spPr>
          <a:xfrm>
            <a:off x="3000240" y="2643120"/>
            <a:ext cx="3143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Quel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feld 3"/>
          <p:cNvSpPr/>
          <p:nvPr/>
        </p:nvSpPr>
        <p:spPr>
          <a:xfrm>
            <a:off x="1143000" y="1714680"/>
            <a:ext cx="7358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ehrbuch: Zentralheizungs- und Lüftungs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ehrbuch: Der Sanitärinstall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rennwert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e.wikipedia.org/wiki/Brennwertke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vollbrennwerttechnik.de/home/hom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oogle.de (Bi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70c0"/>
                </a:solidFill>
                <a:latin typeface="Calibri"/>
              </a:rPr>
              <a:t>Danke für eure Aufmerksam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Grafik 2" descr="danke-1.jpg"/>
          <p:cNvPicPr/>
          <p:nvPr/>
        </p:nvPicPr>
        <p:blipFill>
          <a:blip r:embed="rId1"/>
          <a:stretch/>
        </p:blipFill>
        <p:spPr>
          <a:xfrm rot="292800">
            <a:off x="2500200" y="2428560"/>
            <a:ext cx="41911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Einleit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feld 3"/>
          <p:cNvSpPr/>
          <p:nvPr/>
        </p:nvSpPr>
        <p:spPr>
          <a:xfrm>
            <a:off x="285840" y="1214280"/>
            <a:ext cx="8572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Brennwertgeräte sind durch ihre </a:t>
            </a:r>
            <a:r>
              <a:rPr b="0" i="1" lang="de-DE" sz="2800" spc="-1" strike="noStrike" u="sng">
                <a:solidFill>
                  <a:srgbClr val="ff0000"/>
                </a:solidFill>
                <a:uFillTx/>
                <a:latin typeface="Calibri"/>
              </a:rPr>
              <a:t>über 100%</a:t>
            </a:r>
            <a:r>
              <a:rPr b="0" i="1" lang="de-DE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groß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Wirkungsgrade immer mehr im Gespräch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Name „Brennwertgerät“ leitet sich v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Brennwert der Gase ab, bei dem, im Gegensatz z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Heizwert, auch die latente Wärme des Wasserdamp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genutzt wird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Erfinder der Brennwerttechnik ist Richard Vetter, 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zunächst Gas-Brennwertgeräte entwickelte und dann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1984 auch Öl-Brennwertanla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feld 4"/>
          <p:cNvSpPr/>
          <p:nvPr/>
        </p:nvSpPr>
        <p:spPr>
          <a:xfrm>
            <a:off x="214200" y="214200"/>
            <a:ext cx="8715600" cy="71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Was ist Brennwerttechnik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utzung der Abgaswärme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über spezielle Wärmetauscher werden Abg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gekühlt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Kondensation des im Abgas enthal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asserdampfes 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Die latente Wärme wird als zusätzl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ärmeenergie genutz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Vorteile von Brennwert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feld 2"/>
          <p:cNvSpPr/>
          <p:nvPr/>
        </p:nvSpPr>
        <p:spPr>
          <a:xfrm>
            <a:off x="428760" y="857160"/>
            <a:ext cx="83581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gasverluste werden minimier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ärmeverluste sind ger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trächtliche Energieeinsparu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mweltschonender als Heizgerä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kungsgrade über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Grafik 3" descr="abgasmessgeraete.jpg"/>
          <p:cNvPicPr/>
          <p:nvPr/>
        </p:nvPicPr>
        <p:blipFill>
          <a:blip r:embed="rId1"/>
          <a:stretch/>
        </p:blipFill>
        <p:spPr>
          <a:xfrm rot="754200">
            <a:off x="7478280" y="2437920"/>
            <a:ext cx="1027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Vorteile gegenüber normalen Heiz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2" descr="brennwertdiag_1.jpg"/>
          <p:cNvPicPr/>
          <p:nvPr/>
        </p:nvPicPr>
        <p:blipFill>
          <a:blip r:embed="rId1"/>
          <a:stretch/>
        </p:blipFill>
        <p:spPr>
          <a:xfrm>
            <a:off x="785880" y="1285920"/>
            <a:ext cx="7542000" cy="2643120"/>
          </a:xfrm>
          <a:prstGeom prst="rect">
            <a:avLst/>
          </a:prstGeom>
          <a:ln w="0">
            <a:noFill/>
          </a:ln>
        </p:spPr>
      </p:pic>
      <p:pic>
        <p:nvPicPr>
          <p:cNvPr id="63" name="Grafik 3" descr="brennwertdiag_2.jpg"/>
          <p:cNvPicPr/>
          <p:nvPr/>
        </p:nvPicPr>
        <p:blipFill>
          <a:blip r:embed="rId2"/>
          <a:stretch/>
        </p:blipFill>
        <p:spPr>
          <a:xfrm>
            <a:off x="785880" y="4000680"/>
            <a:ext cx="75009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Nachteile von Brennwert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Grafik 2" descr="kondensatpumpe1.gif"/>
          <p:cNvPicPr/>
          <p:nvPr/>
        </p:nvPicPr>
        <p:blipFill>
          <a:blip r:embed="rId1"/>
          <a:stretch/>
        </p:blipFill>
        <p:spPr>
          <a:xfrm>
            <a:off x="4429080" y="2000160"/>
            <a:ext cx="4429080" cy="3689280"/>
          </a:xfrm>
          <a:prstGeom prst="rect">
            <a:avLst/>
          </a:prstGeom>
          <a:ln w="0">
            <a:noFill/>
          </a:ln>
        </p:spPr>
      </p:pic>
      <p:sp>
        <p:nvSpPr>
          <p:cNvPr id="66" name="Textfeld 3"/>
          <p:cNvSpPr/>
          <p:nvPr/>
        </p:nvSpPr>
        <p:spPr>
          <a:xfrm>
            <a:off x="214200" y="1643040"/>
            <a:ext cx="4143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x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Kondensatab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(ggf. Neutralisation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inricht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Hohe Korrosion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beständ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des Kesselwerkstof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und des Abgas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rforder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 u="sng">
                <a:solidFill>
                  <a:srgbClr val="000000"/>
                </a:solidFill>
                <a:uFillTx/>
                <a:latin typeface="Calibri"/>
              </a:rPr>
              <a:t>Typische Wirkungsgrade im Verglei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5840" y="1285920"/>
          <a:ext cx="8572320" cy="5357880"/>
        </p:xfrm>
        <a:graphic>
          <a:graphicData uri="http://schemas.openxmlformats.org/drawingml/2006/table">
            <a:tbl>
              <a:tblPr/>
              <a:tblGrid>
                <a:gridCol w="4251240"/>
                <a:gridCol w="432108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t der Energiegewinn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ischer Wirkungsgrad in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nnwerttechn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-10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dertemperaturheizgerä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-9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s Standardheizgerä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-9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le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rn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28:30Z</dcterms:created>
  <dc:creator>Jens Riechert</dc:creator>
  <dc:description/>
  <dc:language>en-US</dc:language>
  <cp:lastModifiedBy>Jens Riechert</cp:lastModifiedBy>
  <dcterms:modified xsi:type="dcterms:W3CDTF">2010-05-05T15:16:52Z</dcterms:modified>
  <cp:revision>182</cp:revision>
  <dc:subject/>
  <dc:title>Brennwerttechnik</dc:title>
</cp:coreProperties>
</file>